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756-B98C-4698-93AB-ABF8C3A1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2E3-F856-4007-B0C8-FA4D3072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FD2-63E1-4B54-93A7-22052051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D64-DEB1-497F-8303-F5EB1FCC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94ED-EBFA-4234-9C81-9A6BC8A4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6438-EB55-42C5-AE31-18927E48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C67-0829-42CB-AFEF-6E122C6C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1A26-49E7-4E13-A8DD-EB659B14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CB3C-F97B-4DAF-AE0D-5D2A21AD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27DB-A211-47CE-9385-6F3E4DB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E7F-259E-4634-9950-E4C05CF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50D-2AD2-464F-BD16-C9BF60A9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D443-E255-469B-878B-0D5ED41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E5B6-DB9A-44FF-83B8-90AB5CC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E462-7EC6-4FFE-A5C6-A4D8CDB2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C57C-EEE0-4D83-9B35-E7CCAB20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6B0-C110-435A-96C3-4DEEFFC7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1A5-9E85-4C7A-A8C5-FF59ACED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BB8-E4A7-4100-A076-2513800E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576-4166-4537-B6E2-1E1389D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88D-35A3-46EC-806A-09B5B39E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9D1-7EF7-4F7F-A7FF-BC29254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D95-8D54-4958-93D6-8A8DE50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750-3F5B-4C22-9CD2-DA4BA5B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96D-D468-4AA4-96E9-A25C5C24A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69B9-947D-40A2-A199-19E379792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udent Writing Worksho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heart says to write.  My hands want to write.  My mind has ideas.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 do 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t it all on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533520" y="228600"/>
            <a:ext cx="7543800" cy="662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1447560" y="3429000"/>
            <a:ext cx="289548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343400" y="3429000"/>
            <a:ext cx="3657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4267080" y="533160"/>
            <a:ext cx="16002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1219320" y="18284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4343400" y="3429000"/>
            <a:ext cx="91440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429000" y="2971800"/>
            <a:ext cx="17524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ensory Ch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 rot="4344000">
            <a:off x="2460240" y="1347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a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 rot="20015400">
            <a:off x="5563080" y="2057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m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 rot="1469400">
            <a:off x="5637960" y="46479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 rot="17986200">
            <a:off x="2500200" y="5196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99072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 rot="19686000">
            <a:off x="4267080" y="220932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209680" y="28195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 rot="20125800">
            <a:off x="3508200" y="1080720"/>
            <a:ext cx="381240" cy="1676520"/>
          </a:xfrm>
          <a:prstGeom prst="upArrow">
            <a:avLst>
              <a:gd name="adj1" fmla="val 50000"/>
              <a:gd name="adj2" fmla="val 10993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 rot="1531200">
            <a:off x="3505320" y="3276360"/>
            <a:ext cx="380880" cy="1447560"/>
          </a:xfrm>
          <a:prstGeom prst="down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 rot="1513200">
            <a:off x="4343040" y="3428640"/>
            <a:ext cx="1676520" cy="38088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86728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7220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9092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0666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828800" y="68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648320" y="5029200"/>
            <a:ext cx="3733560" cy="1015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 W’s Gra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rratives, news, s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"/>
          <p:cNvSpPr/>
          <p:nvPr/>
        </p:nvSpPr>
        <p:spPr>
          <a:xfrm rot="577800">
            <a:off x="6400800" y="990360"/>
            <a:ext cx="1676520" cy="510516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978120 h 5105160"/>
              <a:gd name="textAreaBottom" fmla="*/ 3724200 h 51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78" stAng="-5400000" swAng="5400000"/>
                <a:lnTo>
                  <a:pt x="21600" y="11618"/>
                </a:lnTo>
                <a:arcTo wR="21600" hR="8278" stAng="0" swAng="2838337"/>
                <a:lnTo>
                  <a:pt x="7200" y="21127"/>
                </a:lnTo>
                <a:lnTo>
                  <a:pt x="0" y="18225"/>
                </a:lnTo>
                <a:lnTo>
                  <a:pt x="7200" y="14377"/>
                </a:lnTo>
                <a:lnTo>
                  <a:pt x="7200" y="16082"/>
                </a:lnTo>
                <a:arcTo wR="21600" hR="8278" stAng="2838337" swAng="-2567530"/>
                <a:lnTo>
                  <a:pt x="21156" y="9948"/>
                </a:lnTo>
                <a:arcTo wR="21600" hR="8278" stAng="-270807" swAng="-5129193"/>
                <a:close/>
              </a:path>
              <a:path fill="darkenLess" w="21600" h="21600">
                <a:moveTo>
                  <a:pt x="0" y="0"/>
                </a:moveTo>
                <a:arcTo wR="21600" hR="8278" stAng="-5400000" swAng="5400000"/>
                <a:lnTo>
                  <a:pt x="21600" y="11618"/>
                </a:lnTo>
                <a:arcTo wR="21600" hR="8278" stAng="0" swAng="-270807"/>
                <a:lnTo>
                  <a:pt x="21156" y="9948"/>
                </a:lnTo>
                <a:arcTo wR="21600" hR="8278" stAng="-270807" swAng="-5129193"/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 rot="20440800">
            <a:off x="1185840" y="114120"/>
            <a:ext cx="5181480" cy="2057400"/>
          </a:xfrm>
          <a:custGeom>
            <a:avLst/>
            <a:gdLst>
              <a:gd name="textAreaLeft" fmla="*/ 955440 w 5181480"/>
              <a:gd name="textAreaRight" fmla="*/ 3470040 w 5181480"/>
              <a:gd name="textAreaTop" fmla="*/ 275400 h 2057400"/>
              <a:gd name="textAreaBottom" fmla="*/ 1782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68" hR="21600" stAng="10800000" swAng="5400000"/>
                <a:lnTo>
                  <a:pt x="10482" y="0"/>
                </a:lnTo>
                <a:arcTo wR="7968" hR="21600" stAng="-5400000" swAng="2261995"/>
                <a:lnTo>
                  <a:pt x="20823" y="12296"/>
                </a:lnTo>
                <a:lnTo>
                  <a:pt x="17193" y="21600"/>
                </a:lnTo>
                <a:lnTo>
                  <a:pt x="12009" y="12296"/>
                </a:lnTo>
                <a:lnTo>
                  <a:pt x="15159" y="12296"/>
                </a:lnTo>
                <a:arcTo wR="7968" hR="21600" stAng="-3138005" swAng="-2059634"/>
                <a:lnTo>
                  <a:pt x="9225" y="270"/>
                </a:lnTo>
                <a:arcTo wR="7968" hR="21600" stAng="-5602361" swAng="-5197639"/>
                <a:close/>
              </a:path>
              <a:path fill="darkenLess" w="21600" h="21600">
                <a:moveTo>
                  <a:pt x="0" y="21600"/>
                </a:moveTo>
                <a:arcTo wR="7968" hR="21600" stAng="10800000" swAng="5400000"/>
                <a:lnTo>
                  <a:pt x="7968" y="0"/>
                </a:lnTo>
                <a:arcTo wR="7968" hR="21600" stAng="-5400000" swAng="202361"/>
                <a:lnTo>
                  <a:pt x="9225" y="270"/>
                </a:lnTo>
                <a:arcTo wR="7968" hR="21600" stAng="-5602361" swAng="-5197639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7"/>
          <p:cNvSpPr/>
          <p:nvPr/>
        </p:nvSpPr>
        <p:spPr>
          <a:xfrm rot="12298800">
            <a:off x="837720" y="4038120"/>
            <a:ext cx="4648320" cy="2286000"/>
          </a:xfrm>
          <a:custGeom>
            <a:avLst/>
            <a:gdLst>
              <a:gd name="textAreaLeft" fmla="*/ 883080 w 4648320"/>
              <a:gd name="textAreaRight" fmla="*/ 3020760 w 4648320"/>
              <a:gd name="textAreaTop" fmla="*/ 306000 h 2286000"/>
              <a:gd name="textAreaBottom" fmla="*/ 19800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09" hR="21600" stAng="10800000" swAng="5400000"/>
                <a:lnTo>
                  <a:pt x="9933" y="0"/>
                </a:lnTo>
                <a:arcTo wR="8209" hR="21600" stAng="-5400000" swAng="2824095"/>
                <a:lnTo>
                  <a:pt x="21131" y="14400"/>
                </a:lnTo>
                <a:lnTo>
                  <a:pt x="17280" y="21600"/>
                </a:lnTo>
                <a:lnTo>
                  <a:pt x="12491" y="14400"/>
                </a:lnTo>
                <a:lnTo>
                  <a:pt x="15949" y="14400"/>
                </a:lnTo>
                <a:arcTo wR="8209" hR="21600" stAng="-2575905" swAng="-2686215"/>
                <a:lnTo>
                  <a:pt x="9071" y="119"/>
                </a:lnTo>
                <a:arcTo wR="8209" hR="21600" stAng="-5537880" swAng="-5262120"/>
                <a:close/>
              </a:path>
              <a:path fill="darkenLess" w="21600" h="21600">
                <a:moveTo>
                  <a:pt x="0" y="21600"/>
                </a:moveTo>
                <a:arcTo wR="8209" hR="21600" stAng="10800000" swAng="5400000"/>
                <a:lnTo>
                  <a:pt x="8209" y="0"/>
                </a:lnTo>
                <a:arcTo wR="8209" hR="21600" stAng="-5400000" swAng="137880"/>
                <a:lnTo>
                  <a:pt x="9071" y="119"/>
                </a:lnTo>
                <a:arcTo wR="8209" hR="21600" stAng="-5537880" swAng="-526212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352680" y="29718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105520" y="990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029200" y="5943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90720" y="3200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Tim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o Wri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rst Draft of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Use the information you gathered.  Add whatever you think nece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4400" y="6094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MEMBER, IT’S JUST A DRAF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6000" spc="-1" strike="noStrike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Reread your d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other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at will you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What will you dele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will you create inter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Did you follow direc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o whatever is needed to make it gre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228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Be the Edi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219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PIT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752480" y="2590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NC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09480" y="38862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82880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334120" y="1676520"/>
            <a:ext cx="32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uddy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epare final 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of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hare with a fri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esent final cop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905120" y="190512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hat You Wrote.  You Are Now an Author!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514600" y="5334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5800" y="7621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njo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riting is boring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o you write a little every d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 you write about things important to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times don’t worry about mistak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ometimes take time to ed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read to learn.  We write to lea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xplore each do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Make writing powerfu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riting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rewriting:  Choosing and collecting to make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riting: first d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Revising:  Clear up “wandering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diting: spelling, grammar, punc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shing:  Putting your writing out there for others to see, hear, read, enj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llecting:  Keep a portfolio of your writ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er, Wri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News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 Internet Ne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sit Books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k Your Tea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Out What Your Parents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Times New Roman"/>
              </a:rPr>
              <a:t>Be An Investigato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As you read, investigate how the author wrote “his”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Who was the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What was the purpo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How did the author describe his characters and set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What as the plot?  Why do you think it was chos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ur Types of 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228600" y="1981080"/>
          <a:ext cx="8686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686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58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 decided what style of writing, now 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66880" y="1143000"/>
            <a:ext cx="40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’s time to collect details to support your wr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880" y="2362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ther your thou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52480" y="4724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Read about your su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Surf the Ne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962520" y="5410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cipate.  Be a part of what you are wr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486400" y="3962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Watch videos, T.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343400" y="2895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Interview expe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alk it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70572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Visit the libr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304920"/>
            <a:ext cx="838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eate Cool Graphic Organizers                            to                                                                   Organize Your Thoughts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ishb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ime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nn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ine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Sensory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xplanation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5 W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295280" y="1447920"/>
            <a:ext cx="3657600" cy="3047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276720" y="3048120"/>
            <a:ext cx="3504960" cy="32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 flipV="1" rot="8688600">
            <a:off x="5181480" y="2056320"/>
            <a:ext cx="914400" cy="685800"/>
          </a:xfrm>
          <a:prstGeom prst="rightArrow">
            <a:avLst>
              <a:gd name="adj1" fmla="val 25935"/>
              <a:gd name="adj2" fmla="val 2361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3200400" y="30481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2767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095880" y="1905120"/>
            <a:ext cx="2667240" cy="459720"/>
          </a:xfrm>
          <a:prstGeom prst="rect">
            <a:avLst/>
          </a:prstGeom>
          <a:solidFill>
            <a:srgbClr val="ffff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ENN DIA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76720" y="3048120"/>
            <a:ext cx="1676160" cy="13737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n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295280" y="1523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876920" y="5791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41:23Z</dcterms:created>
  <dc:creator>Collin Sewell</dc:creator>
  <dc:description/>
  <dc:language>en-US</dc:language>
  <cp:lastModifiedBy>Hilary C Wiltshire</cp:lastModifiedBy>
  <dcterms:modified xsi:type="dcterms:W3CDTF">2013-08-13T15:46:52Z</dcterms:modified>
  <cp:revision>20</cp:revision>
  <dc:subject/>
  <dc:title>Student Writing Workshop</dc:title>
</cp:coreProperties>
</file>